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2AE-B65F-4883-95A9-73444F6B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490A-B452-40BF-A1B9-8627F0E8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E31-2614-4129-9216-3DDD0A60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7536-7315-476E-BDE1-5081864D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AED-1020-4689-AED2-4DE12898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B3E8-70FC-4139-8A4E-0D06716B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265-7C65-48C2-9962-3B31F883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7C9-F75D-40E0-B398-A95C5E3A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F22-A7D8-43FC-86AB-DE6C039F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93BC-E97A-4605-AA54-AA16C973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C9D-4518-477D-A154-DCBCF100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4F8C-B2CD-46BA-9B3E-5ED036DC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A2C0-D5C2-46CE-833A-02D78647BB5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Opiekun%20prawny.wm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tanowienie%20opieki.wm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owo&#322;anie%20opiekuna.wma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Cechy%20i%20sutuacje%20wykluczaj&#261;ce%20powo&#322;anie%20na%20opiekuna(1).wma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echy%20i%20sytuacje%20wykluczaj&#261;ce%20powo&#322;anie%20na%20opiekuna%20(2).wm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Nie%20mo&#380;e%20tak&#380;e%20by&#263;%20ustanowiony%20opiekunem.wma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referencje%20w%20wyborze%20opiekuna%20(1).wma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referencje%20w%20yborze%20opiekuna%20(2).wma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piekun prawny</a:t>
            </a:r>
            <a:r>
              <a:rPr b="0" lang="pl-PL" sz="3200" spc="-1" strike="noStrike">
                <a:solidFill>
                  <a:srgbClr val="7030a0"/>
                </a:solidFill>
                <a:latin typeface="Arial"/>
              </a:rPr>
              <a:t>- zasady powoływania i zakres odpowiedzialności</a:t>
            </a:r>
            <a:br>
              <a:rPr sz="3200"/>
            </a:br>
            <a:r>
              <a:rPr b="0" lang="pl-PL" sz="3200" spc="-1" strike="noStrike">
                <a:solidFill>
                  <a:srgbClr val="7030a0"/>
                </a:solidFill>
                <a:latin typeface="Arial"/>
              </a:rPr>
              <a:t>art. 145-174 K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393336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zielinska@uw.edu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Zasady powierzania opiek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W razie potrzeby ustanowienia opieki dla małoletniego umieszczonego w pieczy zastępcze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sąd powierza przede wszystkim sprawowanie opiek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 w rodzinie zastępczej – opiekunom zastępcz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rodzinnym domu dziecka – osobom prowadzącym ten d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placówce opiekuńczo-wychowawczej typu rodzinnego - osobom prowadzącym  tę placówk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 umieszczenia dziecka w placówce: socjalizacyjnej, specjalistyczno-terapeutycznej, interwencyjnej, regionalnej placówce opiekuńczo-terapeutycznej –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osobom bliskim dzieck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Prawa i obowiązki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jest obowiązany sprawować obowiązki z należytą starannością, zgodnie z dobrem dziecka i interesem społeczn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sprawuje pieczę nad osobą i majątkiem dziecka, </a:t>
            </a: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podlega przy tym nadzorowi sądu opiekuńcz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Opiekun powinien uzyskiwać zezwolenie sądu we wszystkich ważniejszych sprawach, które dotyczą osoby lub majątku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Prawa i obowiązki opiekun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reprezentuje dziecko przy czynnościach prawnych i przed sądem lub innym organem państwow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powinien informować rodziców dziecka, którzy uczestniczą w jego wychowaniu  o decyzjach w ważniejszych sprawach dotyczących osoby i majątku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ezwłocznie po objęciu opieki opiekun jest zobowiązany do sporządzenia inwentarza majątku dziecka. Sąd może zwolnić go z tego obowiązku jeśli majątek jest nieznacz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Wynagrodzenie dla opiekuna praw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ąd, na żądanie opiekuna, przyznaje mu, za sprawowanie opieki, wynagrodzenie okresowe lub jednorazo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nagrodzenia nie przyznaje się jeżeli nakład  pracy opiekuna jest nieznaczny, opiekun pełni funkcję rodziny zastępczej lub sprawowanie opieki czyni zadość zasadom współżycia społeczneg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Nadzór nad sprawowaniem opie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opiekuńczy sprawuje nadzór nad działalnością opiekuna, zaznajamiając się na bieżąco z jego działalnością oraz udzielając mu wskazówek i polece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może żądać od opiekuna wyjaśnień we wszystkich sprawach związanych z opieką oraz przedstawienia dokument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musi na każde żądanie sądu, nie rzadziej niż raz w roku składać sprawozdania sądowi i rachunki z zarządu majątkiem dziec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3300"/>
                </a:solidFill>
                <a:latin typeface="Arial"/>
              </a:rPr>
              <a:t>Ustanie opieki i zwolnienie opieku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Opieka ustaje z mocy prawa, g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ziecko osiągnie pełnoletni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ostanie przywrócona władza rodziciel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3300"/>
                </a:solidFill>
                <a:latin typeface="Arial"/>
              </a:rPr>
              <a:t>Sąd zwalnia opiekuna</a:t>
            </a:r>
            <a:r>
              <a:rPr b="0" lang="pl-PL" sz="2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 jego żądanie, z ważnych powod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z powodu przeszkód faktycznych lub prawnych jest niezdolny do sprawowania opie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puszcza się czynów i zaniedbań, które naruszają dobro podopiecz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Arial"/>
              </a:rPr>
              <a:t>Skutki ustania opieki i zwolnienia opieku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piekun niezwłocznie po ustaniu opieki lub zwolnieniu opieku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odda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zarządzany przez  siebie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majątek małoletnieg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Złożyć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ciągu 3-miesięcy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rachunek końcowy z zarządu majątki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Nadal prowadzić pilne spraw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dopiecznego, </a:t>
            </a:r>
            <a:r>
              <a:rPr b="1" lang="pl-PL" sz="2800" spc="-1" strike="noStrike">
                <a:solidFill>
                  <a:srgbClr val="7030a0"/>
                </a:solidFill>
                <a:latin typeface="Arial"/>
              </a:rPr>
              <a:t>jeśli istnieje przeszkoda w przekazaniu majątk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powiedniej osobie (art. 171 K.r.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00000"/>
                </a:solidFill>
                <a:latin typeface="Arial"/>
              </a:rPr>
              <a:t>Roszczenia wynikające ze sprawowania opie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 może żądać od podopiecznego zwrotu nakładów i wydatków związanych ze sprawowaniem opiek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ostający pod opieką może żądać naprawienia szkody spowodowanej niewłaściwym sprawowaniem opie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"/>
              </a:rPr>
              <a:t>Roszczenia te przedawniają się po upływie 3 lat od ustania opieki lub zwolnienia opiek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tanowienie opie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1. Opiekę ustanawia sąd opiekuńczy, skoro tylko poweźmie wiadomość, że zachodzi prawny powód do ustanowienia opie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2. Sąd  opiekuńczy wydaje niezbędne zarządzenia dla ochrony osoby lub majątku podopiecznego do czasu objęcia opieki przez opiekuna, w szczególności  sąd opiekuńczy może ustanowić w tym celu kura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wołanie opie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Jeśli żaden z rodziców nie sprawuje władzy rodzicielskiej dla dziecka ustanawia się 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opiekuna praw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Arial"/>
              </a:rPr>
              <a:t>Są to sytuacje, kiedy rodz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nie żyją, są nieznan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nie mają pełnej zdolności do czynności prawnych (małoletni, ubezwłasnowolnien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zostali pozbawieni władzy rodzicielskie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ich władza rodzicielska została zawiesz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chy i sytuacje wykluczające powołanie na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rak zdolności do czynności praw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bawienie praw publicz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zbawienie władzy rodzicielskie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przestępstwo przeciwko wolności seksualnej lub obyczajnośc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umyślne przestępstwo popełnione z użyciem przemoc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chy i sytuacje wykluczające powołanie na opiekun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azanie za przestępstwo popełnione na szkodę małoletniego lub we współdziałaniu z małoletni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zeczenie zakazu prowadzenia działalności związanej z wychowaniem, leczeniem, edukacją małoletnich lub opieką nad nim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rzeczenie zakazu przebywania w określonych środowiskach lub miejscach, zakazu kontaktowania się z określonymi osobami lub zakazu opuszczania miejsca pobytu bez zgody są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964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ie może także być ustanowiony opiekunem </a:t>
            </a: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ten, w stosunku do którego zachodzi prawdopodobieństwo, że nie wywiąże się należycie z obowiązków opiek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ferencje w wyborze opiekuna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unem powinna zostać ustanowiona przede wszystkim osoba wskazana przez rodziców, jeśli nie zostali pozbawieni władzy rodzicielski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nie ma takiej osoby kandydatów na opiekuna szukamy wśród krewnych i osób bliskich dziecku albo rodzic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nie ma takiej osoby sąd zwraca się o wskazanie osoby opiekuna do jednostki organizacyjnej pomocy społecznej albo do organizacji społecznej.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ferencje w wyborze opiekuna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śli małoletni przebywa w placówce opiekuńczo-wychowawczej lub innej podobnej placówce lub zakładzie sąd może zwrócić się o wskazanie kandydata na opiekuna do tej placówki lub zakł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rzypadku umieszczeni dziecka w rodzinie zastępczej lub  rdd sąd powierza sprawowanie opieki przede wszystkim rodzicom zastępczym lub prowadzącym rd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Zasady powierzania opiek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rawowanie opieki powierza się jednej osobie albo wspólnie - tylko małżon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ąd opiekuńczy może ustanowić jednego opiekuna dla kilku osób, jeśli nie ma sprzeczności między ich interes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eka nad rodzeństwem powinna być w miarę możliwości powierzona jednej osobie (albo jednemu małżeństw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4:46:43Z</dcterms:created>
  <dc:creator>azielinska</dc:creator>
  <dc:description/>
  <dc:language>en-US</dc:language>
  <cp:lastModifiedBy>Ania</cp:lastModifiedBy>
  <dcterms:modified xsi:type="dcterms:W3CDTF">2020-03-25T17:09:04Z</dcterms:modified>
  <cp:revision>49</cp:revision>
  <dc:subject/>
  <dc:title>Opiekun prawny- zasady powoływania i zakres odpowiedzialności</dc:title>
</cp:coreProperties>
</file>