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189D-51C3-41AA-A26D-0CADCEF4D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B337-FD5C-4A9B-9BAD-EA6E8B31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AA9F-48F2-4A32-85D6-2B89F7B20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90EB-EEEB-4C2F-8E3F-A499946A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E1F7-114B-4C81-8B90-202777F7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1752-90A0-48D1-898F-85966EB7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71BB-FB38-4AC4-9BF6-1C6FD5B9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F0A4-FA05-48E3-8ACD-F316ECF0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F085-895E-4A90-A354-74AD433E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B1E6-6A22-417B-B27D-6060297D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9C67-5A54-4F11-A981-0957BFA1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A36A-2AFD-423E-805D-997800FA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62E0-53F1-4F9F-97CF-A2A1ED495A51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piekun%20prawny.wma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Ustanowienie%20opieki.wma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Powo&#322;anie%20opiekuna.wma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Cechy%20i%20sutuacje%20wykluczaj&#261;ce%20powo&#322;anie%20na%20opiekuna(1).wma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Cechy%20i%20sytuacje%20wykluczaj&#261;ce%20powo&#322;anie%20na%20opiekuna%20(2).wma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Nie%20mo&#380;e%20tak&#380;e%20by&#263;%20ustanowiony%20opiekunem.wma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Preferencje%20w%20wyborze%20opiekuna%20(1).wma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Preferencje%20w%20yborze%20opiekuna%20(2).wma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piekun prawny</a:t>
            </a:r>
            <a:r>
              <a:rPr b="0" lang="pl-PL" sz="3200" spc="-1" strike="noStrike">
                <a:solidFill>
                  <a:srgbClr val="7030a0"/>
                </a:solidFill>
                <a:latin typeface="Arial"/>
              </a:rPr>
              <a:t>- zasady powoływania i zakres odpowiedzialności</a:t>
            </a:r>
            <a:br>
              <a:rPr sz="3200"/>
            </a:br>
            <a:r>
              <a:rPr b="0" lang="pl-PL" sz="3200" spc="-1" strike="noStrike">
                <a:solidFill>
                  <a:srgbClr val="7030a0"/>
                </a:solidFill>
                <a:latin typeface="Arial"/>
              </a:rPr>
              <a:t>art. 145-174 K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393336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zielinska@uw.edu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99"/>
                </a:solidFill>
                <a:latin typeface="Arial"/>
              </a:rPr>
              <a:t>Zasady powierzania opieki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Arial"/>
              </a:rPr>
              <a:t>W razie potrzeby ustanowienia opieki dla małoletniego umieszczonego w pieczy zastępczej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sąd powierza przede wszystkim sprawowanie opiek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przypadku  umieszczenia dziecka  w rodzinie zastępczej – opiekunom zastępczy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przypadku  umieszczenia dziecka w rodzinnym domu dziecka – osobom prowadzącym ten do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przypadku  umieszczenia dziecka w placówce opiekuńczo-wychowawczej typu rodzinnego - osobom prowadzącym  tę placówkę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przypadku  umieszczenia dziecka w placówce: socjalizacyjnej, specjalistyczno-terapeutycznej, interwencyjnej, regionalnej placówce opiekuńczo-terapeutycznej – </a:t>
            </a:r>
            <a:r>
              <a:rPr b="0" lang="pl-PL" sz="2000" spc="-1" strike="noStrike">
                <a:solidFill>
                  <a:srgbClr val="ff0000"/>
                </a:solidFill>
                <a:latin typeface="Arial"/>
              </a:rPr>
              <a:t>osobom bliskim dziecku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8000"/>
                </a:solidFill>
                <a:latin typeface="Arial"/>
              </a:rPr>
              <a:t>Prawa i obowiązki opiekuna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jest obowiązany sprawować obowiązki z należytą starannością, zgodnie z dobrem dziecka i interesem społeczny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sprawuje pieczę nad osobą i majątkiem dziecka, </a:t>
            </a:r>
            <a:r>
              <a:rPr b="0" lang="pl-PL" sz="2800" spc="-1" strike="noStrike">
                <a:solidFill>
                  <a:srgbClr val="cc3300"/>
                </a:solidFill>
                <a:latin typeface="Arial"/>
              </a:rPr>
              <a:t>podlega przy tym nadzorowi sądu opiekuńcz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3300"/>
                </a:solidFill>
                <a:latin typeface="Arial"/>
              </a:rPr>
              <a:t>Opiekun powinien uzyskiwać zezwolenie sądu we wszystkich ważniejszych sprawach, które dotyczą osoby lub majątku dziec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8000"/>
                </a:solidFill>
                <a:latin typeface="Arial"/>
              </a:rPr>
              <a:t>Prawa i obowiązki opiekuna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reprezentuje dziecko przy czynnościach prawnych i przed sądem lub innym organem państwowy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powinien informować rodziców dziecka, którzy uczestniczą w jego wychowaniu  o decyzjach w ważniejszych sprawach dotyczących osoby i majątku dziec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iezwłocznie po objęciu opieki opiekun jest zobowiązany do sporządzenia inwentarza majątku dziecka. Sąd może zwolnić go z tego obowiązku jeśli majątek jest nieznacz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0000"/>
                </a:solidFill>
                <a:latin typeface="Arial"/>
              </a:rPr>
              <a:t>Wynagrodzenie dla opiekuna prawn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ąd, na żądanie opiekuna, przyznaje mu, za sprawowanie opieki, wynagrodzenie okresowe lub jednorazow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ynagrodzenia nie przyznaje się jeżeli nakład  pracy opiekuna jest nieznaczny, opiekun pełni funkcję rodziny zastępczej lub sprawowanie opieki czyni zadość zasadom współżycia społeczneg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Arial"/>
              </a:rPr>
              <a:t>Nadzór nad sprawowaniem opie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ąd opiekuńczy sprawuje nadzór nad działalnością opiekuna, zaznajamiając się na bieżąco z jego działalnością oraz udzielając mu wskazówek i polece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ąd może żądać od opiekuna wyjaśnień we wszystkich sprawach związanych z opieką oraz przedstawienia dokumentó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musi na każde żądanie sądu, nie rzadziej niż raz w roku składać sprawozdania sądowi i rachunki z zarządu majątkiem dziec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c3300"/>
                </a:solidFill>
                <a:latin typeface="Arial"/>
              </a:rPr>
              <a:t>Ustanie opieki i zwolnienie opieku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Opieka ustaje z mocy prawa, g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ziecko osiągnie pełnoletnioś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ostanie przywrócona władza rodziciels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3300"/>
                </a:solidFill>
                <a:latin typeface="Arial"/>
              </a:rPr>
              <a:t>Sąd zwalnia opiekuna</a:t>
            </a:r>
            <a:r>
              <a:rPr b="0" lang="pl-PL" sz="28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a jego żądanie, z ważnych powodó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eśli z powodu przeszkód faktycznych lub prawnych jest niezdolny do sprawowania opie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puszcza się czynów i zaniedbań, które naruszają dobro podopieczne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00000"/>
                </a:solidFill>
                <a:latin typeface="Arial"/>
              </a:rPr>
              <a:t>Skutki ustania opieki i zwolnienia opieku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piekun niezwłocznie po ustaniu opieki lub zwolnieniu opieku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oddać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zarządzany przez  siebie </a:t>
            </a: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majątek małoletniego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Złożyć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 ciągu 3-miesięcy </a:t>
            </a: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rachunek końcowy z zarządu majątkie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Nadal prowadzić pilne spraw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dopiecznego, </a:t>
            </a: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jeśli istnieje przeszkoda w przekazaniu majątku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dpowiedniej osobie (art. 171 K.r.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00000"/>
                </a:solidFill>
                <a:latin typeface="Arial"/>
              </a:rPr>
              <a:t>Roszczenia wynikające ze sprawowania opie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może żądać od podopiecznego zwrotu nakładów i wydatków związanych ze sprawowaniem opiek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zostający pod opieką może żądać naprawienia szkody spowodowanej niewłaściwym sprawowaniem opie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00000"/>
                </a:solidFill>
                <a:latin typeface="Arial"/>
              </a:rPr>
              <a:t>Roszczenia te przedawniają się po upływie 3 lat od ustania opieki lub zwolnienia opiek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stanowienie opiek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1. Opiekę ustanawia sąd opiekuńczy, skoro tylko poweźmie wiadomość, że zachodzi prawny powód do ustanowienia opiek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2. Sąd  opiekuńczy wydaje niezbędne zarządzenia dla ochrony osoby lub majątku podopiecznego do czasu objęcia opieki przez opiekuna, w szczególności  sąd opiekuńczy może ustanowić w tym celu kurat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wołanie opieku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Jeśli żaden z rodziców nie sprawuje władzy rodzicielskiej dla dziecka ustanawia się </a:t>
            </a: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opiekuna prawne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Arial"/>
              </a:rPr>
              <a:t>Są to sytuacje, kiedy rodz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nie żyją, są nieznan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nie mają pełnej zdolności do czynności prawnych (małoletni, ubezwłasnowolnieni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zostali pozbawieni władzy rodzicielskiej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ich władza rodzicielska została zawiesz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echy i sytuacje wykluczające powołanie na opiekuna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Brak zdolności do czynności prawnyc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zbawienie praw publicznyc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zbawienie władzy rodzicielskiej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kazanie za przestępstwo przeciwko wolności seksualnej lub obyczajnośc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kazanie za umyślne przestępstwo popełnione z użyciem przemoc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echy i sytuacje wykluczające powołanie na opiekuna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kazanie za przestępstwo popełnione na szkodę małoletniego lub we współdziałaniu z małoletni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rzeczenie zakazu prowadzenia działalności związanej z wychowaniem, leczeniem, edukacją małoletnich lub opieką nad nimi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rzeczenie zakazu przebywania w określonych środowiskach lub miejscach, zakazu kontaktowania się z określonymi osobami lub zakazu opuszczania miejsca pobytu bez zgody sąd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39640" y="40464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ie może także być ustanowiony opiekunem </a:t>
            </a:r>
            <a:r>
              <a:rPr b="1" lang="pl-PL" sz="3200" spc="-1" strike="noStrike">
                <a:solidFill>
                  <a:srgbClr val="333399"/>
                </a:solidFill>
                <a:latin typeface="Arial"/>
              </a:rPr>
              <a:t>ten, w stosunku do którego zachodzi prawdopodobieństwo, że nie wywiąże się należycie z obowiązków opieku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eferencje w wyborze opiekuna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em powinna zostać ustanowiona przede wszystkim osoba wskazana przez rodziców, jeśli nie zostali pozbawieni władzy rodzicielski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eśli nie ma takiej osoby kandydatów na opiekuna szukamy wśród krewnych i osób bliskich dziecku albo rodzico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eśli nie ma takiej osoby sąd zwraca się o wskazanie osoby opiekuna do jednostki organizacyjnej pomocy społecznej albo do organizacji społecznej.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eferencje w wyborze opiekuna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eśli małoletni przebywa w placówce opiekuńczo-wychowawczej lub innej podobnej placówce lub zakładzie sąd może zwrócić się o wskazanie kandydata na opiekuna do tej placówki lub zakł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 przypadku umieszczeni dziecka w rodzinie zastępczej lub  rdd sąd powierza sprawowanie opieki przede wszystkim rodzicom zastępczym lub prowadzącym rd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99"/>
                </a:solidFill>
                <a:latin typeface="Arial"/>
              </a:rPr>
              <a:t>Zasady powierzania opieki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prawowanie opieki powierza się jednej osobie albo wspólnie - tylko małżonk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ąd opiekuńczy może ustanowić jednego opiekuna dla kilku osób, jeśli nie ma sprzeczności między ich interesa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a nad rodzeństwem powinna być w miarę możliwości powierzona jednej osobie (albo jednemu małżeństwu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0T14:46:43Z</dcterms:created>
  <dc:creator>azielinska</dc:creator>
  <dc:description/>
  <dc:language>en-US</dc:language>
  <cp:lastModifiedBy>Ania</cp:lastModifiedBy>
  <dcterms:modified xsi:type="dcterms:W3CDTF">2020-03-25T17:09:04Z</dcterms:modified>
  <cp:revision>49</cp:revision>
  <dc:subject/>
  <dc:title>Opiekun prawny- zasady powoływania i zakres odpowiedzialności</dc:title>
</cp:coreProperties>
</file>