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621-72A1-4F90-AD1E-662F80A9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B39-1AF2-40A0-BFB6-604145E6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EB0-43FB-42C9-8BBA-8F5413D4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593-C59E-4B84-89E2-D7DC8824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B17-8596-41AA-BCF5-0D903F3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4F5-3140-4FEA-8961-C2C19E2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9D5-67E3-424B-BFAF-5D68631F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6A8-8C6E-4564-888D-896AEB3E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475-5F04-429F-81E6-1DA31A3F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EE5-C310-4F9C-9010-EAC41A9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B6A-584D-4D5F-99C2-2AA9112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528-4B89-4BAF-BF36-794AEAE2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9B4D-981D-41F3-8E4A-E202F5886A4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iekun%20prawny.wm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tanowienie%20opieki.wm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owo&#322;anie%20opiekuna.wm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echy%20i%20sutuacje%20wykluczaj&#261;ce%20powo&#322;anie%20na%20opiekuna(1).wm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chy%20i%20sytuacje%20wykluczaj&#261;ce%20powo&#322;anie%20na%20opiekuna%20(2).wm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ie%20mo&#380;e%20tak&#380;e%20by&#263;%20ustanowiony%20opiekunem.wm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eferencje%20w%20wyborze%20opiekuna%20(1).wm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ferencje%20w%20yborze%20opiekuna%20(2).w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iekun prawny</a:t>
            </a: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- zasady powoływania i zakres odpowiedzialności</a:t>
            </a:r>
            <a:br>
              <a:rPr sz="3200"/>
            </a:b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art. 145-174 K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zielinska@uw.edu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 razie potrzeby ustanowienia opieki dla małoletniego umieszczonego w pieczy zastępcz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sąd powierza przede wszystkim sprawowanie opie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 w rodzinie zastępczej – opiekunom zastępcz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rodzinnym domu dziecka – osobom prowadzącym ten d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 opiekuńczo-wychowawczej typu rodzinnego - osobom prowadzącym  tę placówk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: socjalizacyjnej, specjalistyczno-terapeutycznej, interwencyjnej, regionalnej placówce opiekuńczo-terapeutycznej –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osobom bliskim dziec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jest obowiązany sprawować obowiązki z należytą starannością, zgodnie z dobrem dziecka i interesem społe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sprawuje pieczę nad osobą i majątkiem dziecka, 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podlega przy tym nadzorowi sądu opiekuńcz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piekun powinien uzyskiwać zezwolenie sądu we wszystkich ważniejszych sprawach, które dotyczą osoby lub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reprezentuje dziecko przy czynnościach prawnych i przed sądem lub innym organem państw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powinien informować rodziców dziecka, którzy uczestniczą w jego wychowaniu  o decyzjach w ważniejszych sprawach dotyczących osoby i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zwłocznie po objęciu opieki opiekun jest zobowiązany do sporządzenia inwentarza majątku dziecka. Sąd może zwolnić go z tego obowiązku jeśli majątek jest nieznacz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Wynagrodzenie dla opiekuna praw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, na żądanie opiekuna, przyznaje mu, za sprawowanie opieki, wynagrodzenie okresowe lub jednoraz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agrodzenia nie przyznaje się jeżeli nakład  pracy opiekuna jest nieznaczny, opiekun pełni funkcję rodziny zastępczej lub sprawowanie opieki czyni zadość zasadom współżycia społeczne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adzór nad sprawowaniem opi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sprawuje nadzór nad działalnością opiekuna, zaznajamiając się na bieżąco z jego działalnością oraz udzielając mu wskazówek i polece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może żądać od opiekuna wyjaśnień we wszystkich sprawach związanych z opieką oraz przedstawienia dokume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usi na każde żądanie sądu, nie rzadziej niż raz w roku składać sprawozdania sądowi i rachunki z zarządu majątkiem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Arial"/>
              </a:rPr>
              <a:t>Ustanie opieki i zwolnienie opiek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Opieka ustaje z mocy prawa, g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ecko osiągnie pełnoletni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stanie przywrócona władza rodziciel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ąd zwalnia opiekuna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go żądanie, z ważnych powod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z powodu przeszkód faktycznych lub prawnych jest niezdolny do sprawowania opie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puszcza się czynów i zaniedbań, które naruszają dobro podopiecz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Skutki ustania opieki i zwolnienia opiek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iekun niezwłocznie po ustaniu opieki lub zwolnieniu opieku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odda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arządzany przez  siebie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majątek małoletnieg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Złożyć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ciągu 3-miesięcy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rachunek końcowy z zarządu majątki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Nadal prowadzić pilne spra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opiecznego,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jeśli istnieje przeszkoda w przekazaniu majątk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owiedniej osobie (art. 171 K.r.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Roszczenia wynikające ze sprawowania opie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oże żądać od podopiecznego zwrotu nakładów i wydatków związanych ze sprawowaniem opiek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ostający pod opieką może żądać naprawienia szkody spowodowanej niewłaściwym sprawowaniem opie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Roszczenia te przedawniają się po upływie 3 lat od ustania opieki lub zwolnienia opie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tanowienie opie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Opiekę ustanawia sąd opiekuńczy, skoro tylko poweźmie wiadomość, że zachodzi prawny powód do ustanowienia opie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2. Sąd  opiekuńczy wydaje niezbędne zarządzenia dla ochrony osoby lub majątku podopiecznego do czasu objęcia opieki przez opiekuna, w szczególności  sąd opiekuńczy może ustanowić w tym celu kura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ołanie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śli żaden z rodziców nie sprawuje władzy rodzicielskiej dla dziecka ustanawia się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piekuna praw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ą to sytuacje, kiedy rodz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żyją, są niezna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mają pełnej zdolności do czynności prawnych (małoletni, ubezwłasnowolnien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zostali pozbawieni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ich władza rodzicielska została zawies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rak zdolności do czynności praw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praw publicz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rzeciwko wolności seksualnej lub obyczajnoś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umyślne przestępstwo popełnione z użyciem przemo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opełnione na szkodę małoletniego lub we współdziałaniu z małoletn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owadzenia działalności związanej z wychowaniem, leczeniem, edukacją małoletnich lub opieką nad nim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zebywania w określonych środowiskach lub miejscach, zakazu kontaktowania się z określonymi osobami lub zakazu opuszczania miejsca pobytu bez zgody są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e może także być ustanowiony opiekunem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ten, w stosunku do którego zachodzi prawdopodobieństwo, że nie wywiąże się należycie z obowiązków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em powinna zostać ustanowiona przede wszystkim osoba wskazana przez rodziców, jeśli nie zostali pozbawieni władzy rodziciel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kandydatów na opiekuna szukamy wśród krewnych i osób bliskich dziecku albo rodzic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sąd zwraca się o wskazanie osoby opiekuna do jednostki organizacyjnej pomocy społecznej albo do organizacji społecznej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małoletni przebywa w placówce opiekuńczo-wychowawczej lub innej podobnej placówce lub zakładzie sąd może zwrócić się o wskazanie kandydata na opiekuna do tej placówki lub zakł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umieszczeni dziecka w rodzinie zastępczej lub  rdd sąd powierza sprawowanie opieki przede wszystkim rodzicom zastępczym lub prowadzącym rd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wanie opieki powierza się jednej osobie albo wspólnie - tylko małżo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może ustanowić jednego opiekuna dla kilku osób, jeśli nie ma sprzeczności między ich intere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nad rodzeństwem powinna być w miarę możliwości powierzona jednej osobie (albo jednemu małżeństw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4:46:43Z</dcterms:created>
  <dc:creator>azielinska</dc:creator>
  <dc:description/>
  <dc:language>en-US</dc:language>
  <cp:lastModifiedBy>Ania</cp:lastModifiedBy>
  <dcterms:modified xsi:type="dcterms:W3CDTF">2020-03-25T17:09:04Z</dcterms:modified>
  <cp:revision>49</cp:revision>
  <dc:subject/>
  <dc:title>Opiekun prawny- zasady powoływania i zakres odpowiedzialności</dc:title>
</cp:coreProperties>
</file>